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524-1A74-43AD-BF77-97EB1614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3EC-B104-44F9-99C0-CF599E3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335-6478-4B38-A960-9E647EAA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B10-F430-44F7-827D-10D9A85F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E1B-0B7A-4F30-91F6-F81C5358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844E-CF75-4A1E-B178-2706770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FB9-DA44-4268-9453-F662E39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11C-1E98-4F4D-BFD1-47E7F6A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E5B2-99C1-4600-BC33-25076B50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C57F-A087-4357-B330-61CF9F21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F47A-9F3D-4526-8B09-0F27B3D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B2B-59B6-4619-B0E7-66B98608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F82B-C636-47F0-B293-B1EAD98A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59AC-2A0D-4DBA-B8A5-32965A0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6D81-6B93-409C-BEF6-0E713725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1ED9-885F-4184-BD08-BCE9601F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A1F-589E-49EA-84BD-F22E885D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F02-B35A-481C-8CA2-619475D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EC7-0B45-4FE5-9024-0DA9D98F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727-1B1F-47F4-AD52-6BEC464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524-68EE-4117-A3C9-2DA24D61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5A6-8F68-4F7B-A3C4-CE42242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8CF-072C-440F-9680-58422DF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146-84E1-4963-A636-B88CAE1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5BA-27F0-4445-89E2-2EF48AA67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030-47AB-4771-B5AE-5BF9C8670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Friday, November 14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(Sec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– 1)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ore Advanced Simplifying Trig Identiti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may involve factoring, fractions, and other algebraic conce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 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ta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2.  1 – 2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  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+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–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0" y="277920"/>
          <a:ext cx="495288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7920"/>
                    <a:ext cx="495288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ge 382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#63-75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Questions from HW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g 381 #31-41)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Lesson 5.1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rt three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54Z</dcterms:created>
  <dc:creator>jnewman</dc:creator>
  <dc:description/>
  <dc:language>en-US</dc:language>
  <cp:lastModifiedBy>abeason</cp:lastModifiedBy>
  <dcterms:modified xsi:type="dcterms:W3CDTF">2008-11-13T17:44:40Z</dcterms:modified>
  <cp:revision>11</cp:revision>
  <dc:subject/>
  <dc:title>Lesson 5.1 part three</dc:title>
</cp:coreProperties>
</file>